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695-D3E2-4A06-B772-782AAD95F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3D81-6B90-4399-AAFF-469DCE98D3FD}" type="slidenum">
              <a:rPr b="1" lang="en-US" sz="1200" spc="-1" strike="noStrike">
                <a:solidFill>
                  <a:srgbClr val="3b3b3b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E802-34A1-4039-A992-E6818308F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845F-0460-41EE-90DD-8634BA934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D8EA-DB72-409C-932C-253643CC2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4BF8-7B13-4A61-83B9-82CE8E495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9A11-A882-470D-95EA-512E36F36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64E-5BF6-494B-AB9B-3F162D6F0B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578-47D1-4247-8B72-F82402E426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02E-D202-4C48-9027-79AA5D6B4D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BA8-8921-4ADC-A288-60B0BB05BD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9DE-0278-4032-BC19-079D40682B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313F-C4CE-49E3-9EB5-09BC681495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8D2-487A-4CD4-8A29-D5C521D8D5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C12-C964-4206-BDB4-9966ABF26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ABE-ADBF-4057-AE1C-68FA728FB3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3FB-CF63-4E49-B786-BC89B554E7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5B5-EC98-4CE4-9663-D43A9A2176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49E-5ABD-481A-837C-F85E37572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860-8CA8-4698-B939-F35557CB2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982F-67AA-406B-9732-703B354B7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CDC1-87B6-4366-9FD2-9526AF27A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65AB-B621-401E-A706-101177428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974F-44AD-4A57-ADA3-87D4B0FC1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FC87-698F-47C1-BFE7-11FE9C19C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DAC4-1F32-4631-9493-975022C7C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95A3-E3F3-4E42-86B4-1EA9E553A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5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Line 5"/>
          <p:cNvSpPr/>
          <p:nvPr/>
        </p:nvSpPr>
        <p:spPr>
          <a:xfrm>
            <a:off x="1447920" y="685800"/>
            <a:ext cx="0" cy="441972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42" name="Picture 9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6400800" y="4724280"/>
            <a:ext cx="2022480" cy="1401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5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82" name="Picture 7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152280" y="6095880"/>
            <a:ext cx="932040" cy="646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CE8-A0BD-405A-8EEA-BF5893C27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76323"/>
                </a:solidFill>
                <a:latin typeface="Calibri"/>
                <a:ea typeface="Calibri"/>
              </a:rPr>
              <a:t>World Education Services</a:t>
            </a:r>
            <a:endParaRPr b="1" lang="en-US" sz="42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#CdnImm March 2013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BA8A-0568-4F3B-ABB8-AFB39C3BBEF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73" name="Chart 7" descr=""/>
          <p:cNvPicPr/>
          <p:nvPr/>
        </p:nvPicPr>
        <p:blipFill>
          <a:blip r:embed="rId1"/>
          <a:stretch/>
        </p:blipFill>
        <p:spPr>
          <a:xfrm>
            <a:off x="304920" y="1311120"/>
            <a:ext cx="4876560" cy="41943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"/>
          <p:cNvSpPr/>
          <p:nvPr/>
        </p:nvSpPr>
        <p:spPr>
          <a:xfrm>
            <a:off x="304920" y="134784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Did you gain admission to any of the academic institutions where you submitted your WES evaluation report?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952880" y="244476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About  half of the clients who were not admitted believed that their </a:t>
            </a: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foreign education was not recognized</a:t>
            </a:r>
            <a:br>
              <a:rPr sz="1800"/>
            </a:br>
            <a:r>
              <a:rPr b="1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85% of clients believe a WES report helped them achieve education and career goals</a:t>
            </a:r>
            <a:br>
              <a:rPr sz="1800"/>
            </a:br>
            <a:r>
              <a:rPr b="0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ssessment &amp; Recognition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Basic Reports</a:t>
            </a: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	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Document-by-Document (DxD)</a:t>
            </a:r>
            <a:br>
              <a:rPr sz="32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employment, immigration/work visa permits, and entry to apprenticeship training program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Course-by-Course (CxC)</a:t>
            </a:r>
            <a:br>
              <a:rPr sz="3200"/>
            </a:b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** includes DxD</a:t>
            </a:r>
            <a:br>
              <a:rPr sz="20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higher or continuing education and some licensure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E49A-08A8-44F6-8E17-184B61ADB46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Required Docum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Helps ensure recognition and portability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Calibri"/>
                <a:ea typeface="Calibri"/>
              </a:rPr>
              <a:t>http://www.wes.org/ca/required/index.asp</a:t>
            </a:r>
            <a:br>
              <a:rPr sz="2800"/>
            </a:br>
            <a:r>
              <a:rPr b="0" lang="en-US" sz="2800" spc="-1" strike="noStrike">
                <a:solidFill>
                  <a:srgbClr val="2626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ountry specific require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uthentication Statement on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302B-2830-4476-BC95-D017A572F58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Document-by-Document (DxD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AEC-C6B6-4AF0-BEF6-16BE4FB8931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88" name="Picture 6" descr="658775 China Sample_1.jpg"/>
          <p:cNvPicPr/>
          <p:nvPr/>
        </p:nvPicPr>
        <p:blipFill>
          <a:blip r:embed="rId1"/>
          <a:srcRect l="6781" t="8063" r="5086" b="10684"/>
          <a:stretch/>
        </p:blipFill>
        <p:spPr>
          <a:xfrm>
            <a:off x="2286000" y="1295280"/>
            <a:ext cx="4537080" cy="541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ourse-by-Course (CxC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DB5-4268-4E15-AE85-FD8BFDEF630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92" name="Content Placeholder 6" descr="658775 China Sample_2.jpg"/>
          <p:cNvPicPr/>
          <p:nvPr/>
        </p:nvPicPr>
        <p:blipFill>
          <a:blip r:embed="rId1"/>
          <a:srcRect l="8297" t="5011" r="0" b="2373"/>
          <a:stretch/>
        </p:blipFill>
        <p:spPr>
          <a:xfrm>
            <a:off x="2590920" y="1260360"/>
            <a:ext cx="4190760" cy="5473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76323"/>
                </a:solidFill>
                <a:latin typeface="Calibri"/>
                <a:ea typeface="Calibri"/>
              </a:rPr>
              <a:t>International Credential Advantage Package</a:t>
            </a:r>
            <a:endParaRPr b="1" lang="en-US" sz="35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212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nhanced report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ICAP DxD or ICAP CxC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tores verified academic transcripts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livers to institutions/licensing bodies in one complete package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* 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verified transcripts </a:t>
            </a:r>
            <a:r>
              <a:rPr b="1" i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nd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41F6-696C-4399-B99F-C3150E6EE90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Degree Equivalency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Free and instant preview (look-up) of post-secondary academic credentials without submitting any docu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gree Preview lin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alibri"/>
                <a:ea typeface="Calibri"/>
              </a:rPr>
              <a:t>http://www.wes.org/ca/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1C65-AA3C-4A2A-AC4E-01BE2D511F7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Q &amp; A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BEB4-563A-4FD4-A0BD-C53749A38F9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205" name="Rectangle 9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668840" cy="785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609480" y="2438280"/>
            <a:ext cx="6477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arah Hua</a:t>
            </a:r>
            <a:br>
              <a:rPr sz="2800"/>
            </a:br>
            <a:r>
              <a:rPr b="1" lang="en-US" sz="16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Education Recognition Advisor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416.972.0070 x5244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hua@wes.org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World Education Services (WES)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2 Carlton Street, Suite 1400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Toronto, ON M5B 1J3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Outlin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vs. Recognition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services in Canada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bout WES clients’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WES Documentation Requirements &amp; Services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730-FA30-44C8-84B8-9B4DDDEB51F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Barriers to Succes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60FC-E18C-4B9C-AFAC-E3B7E4AC6D8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39" name="Content Placeholder 5" descr=""/>
          <p:cNvPicPr/>
          <p:nvPr/>
        </p:nvPicPr>
        <p:blipFill>
          <a:blip r:embed="rId1"/>
          <a:stretch/>
        </p:blipFill>
        <p:spPr>
          <a:xfrm>
            <a:off x="384120" y="1298520"/>
            <a:ext cx="8461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hat is Credential Evaluation?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valuations VS Recognition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Evalua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academic credentials comparison to Canadian standard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b3b"/>
                </a:solidFill>
                <a:latin typeface="Calibri"/>
                <a:ea typeface="Calibri"/>
              </a:rPr>
              <a:t>May include validation of documents</a:t>
            </a: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Recogni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Acceptance of international academic credentials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629D-357E-43C3-B351-82F5F01BB39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Assessment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4475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essment services are used by: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cademic institution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licensing bodie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employer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 training program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immigratio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who gives credential recognition can help  with accurate advisement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92B-14E1-405A-B6C1-91FD3BFE9AC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Evaluation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pic>
        <p:nvPicPr>
          <p:cNvPr id="150" name="Content Placeholder 5" descr=""/>
          <p:cNvPicPr/>
          <p:nvPr/>
        </p:nvPicPr>
        <p:blipFill>
          <a:blip r:embed="rId1"/>
          <a:stretch/>
        </p:blipFill>
        <p:spPr>
          <a:xfrm>
            <a:off x="1143000" y="2009880"/>
            <a:ext cx="6477120" cy="441144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1E7-3ACA-4894-81F0-4CDE21DD25C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914400" y="12952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7 Agencies in Canada (canalliance.org); 3 in Ontario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ttp://www.cicic.ca/504/comparative-chart.canada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B784-62A1-4FB7-B83E-814FA41B22C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CB0B-3643-4FF6-82C9-E31D869F3F6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97180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58" name="Chart 10" descr=""/>
          <p:cNvPicPr/>
          <p:nvPr/>
        </p:nvPicPr>
        <p:blipFill>
          <a:blip r:embed="rId1"/>
          <a:stretch/>
        </p:blipFill>
        <p:spPr>
          <a:xfrm>
            <a:off x="558720" y="1320840"/>
            <a:ext cx="77216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72FF-5D78-4AD8-8908-75B19E60519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2" name="Chart 5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5803560" cy="4279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0"/>
          <p:cNvSpPr/>
          <p:nvPr/>
        </p:nvSpPr>
        <p:spPr>
          <a:xfrm>
            <a:off x="509760" y="1581120"/>
            <a:ext cx="53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ighest Level of Education Attained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248520" y="309708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3b3b"/>
                </a:solidFill>
                <a:latin typeface="Calibri"/>
                <a:ea typeface="Calibri"/>
              </a:rPr>
              <a:t>Majority in business, management, health and engineering</a:t>
            </a:r>
            <a:endParaRPr b="1" lang="en-US" sz="2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76323"/>
                </a:solidFill>
                <a:latin typeface="Calibri"/>
                <a:ea typeface="Calibri"/>
              </a:rPr>
              <a:t>Higher or Continuing Education</a:t>
            </a:r>
            <a:endParaRPr b="1" lang="en-US" sz="39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371240"/>
            <a:ext cx="838224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For every institution, there are program specific requirements for credential evaluation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Always check the specific program’s requirements!</a:t>
            </a:r>
            <a:br>
              <a:rPr sz="2900"/>
            </a:br>
            <a:r>
              <a:rPr b="1" lang="en-US" sz="29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4FDD-59A7-47C0-8F4D-7C2E79AFD88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124080" y="3693960"/>
            <a:ext cx="4191120" cy="2845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 rot="20790600">
            <a:off x="1568160" y="3673080"/>
            <a:ext cx="23241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20:16:31Z</dcterms:created>
  <dc:creator/>
  <dc:description/>
  <dc:language>en-US</dc:language>
  <cp:lastModifiedBy>Sarah Hua</cp:lastModifiedBy>
  <dcterms:modified xsi:type="dcterms:W3CDTF">2013-03-07T17:08:14Z</dcterms:modified>
  <cp:revision>248</cp:revision>
  <dc:subject/>
  <dc:title>2010 WES INFO SESSIONS - APPLICANTS</dc:title>
</cp:coreProperties>
</file>